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E4A-7304-4E2D-A444-144FB10ECE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итульном слайде указывается наименова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зу – город и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F9B2-2F3D-4FE9-A140-B51AE1A0656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39D-1C7C-43A4-9B49-33D80AABA99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9253-0916-4234-8519-0E376294498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5FDD-7904-4400-A8FE-FAA258D6635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10D-17B9-42C3-838D-8DFC258AF77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F3B3-D66D-49F4-90B2-2DB500ABB85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18A-71C6-40EF-9DF9-87B91B488A9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2D0-9870-4D6F-9A41-62B46F287EF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33A-ED6C-47CD-BEF0-EB919D5FE45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5403-0F42-420D-A36A-8C49B64B7B0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468-F44B-487F-B9F5-705DDD22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C17-EC17-4073-BEE7-A89E3D53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09E-A159-4A69-A088-D4202DF0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98C-A29A-4737-98E1-956EE120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849-D4AF-4757-AB75-74C5573E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3BD-51AC-415A-A753-11E1866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5586-E49B-41EF-89E5-80A8A7D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061D-0262-49B2-A2DA-4E6C6DF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645E-82FF-4645-BB4C-055E1744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F9B-910A-4443-8B7B-5C538FA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38B7-85B6-481D-BEE3-F3A5DEE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488-4A04-476F-AD69-187AE8E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A563-CEA6-408A-8C50-9D88D3B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8432-469C-4A1D-81AA-72CA970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E87-EF22-452C-97C8-E4AE188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B48-B816-4863-8171-DCBB3BEC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1C0-9080-4C9A-A7FC-2F83DC02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CC3-FC84-4C04-93D0-629E731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67F-C830-4866-B754-A7CFDF6D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787E-C010-4D9F-9B0C-4E10006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273-D54C-45C6-8A65-79A041D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75D9-0651-4CA7-99F7-26A6D93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B0BD-CD40-4526-B57A-83D6032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D684-F9BF-42A0-A439-E243EF27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43E2-BD2E-4B82-9D82-BB1E991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EFF1-DBBC-47B9-AA42-D83E58D9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C25C-2C26-42BE-AA44-005EC72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9C07-1C8D-479F-AFF8-1A5FD79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CC34-C643-488D-A094-5BE0422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A918-7C1E-40FA-B77A-D5129BCD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9D6C-F744-4EBD-B00B-A3F20797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794-9546-4F32-BFF0-FAA0E48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A8F4-7FA7-4ED3-A89E-CB7E825B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B85-FF8F-4391-A30C-56D0420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F1B-8617-4E5F-A099-8C8A4D7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329-EBFD-4DA4-8117-44A6190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963-2504-416D-A7F6-974BFCE1D13A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543360"/>
            <a:ext cx="28954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Инвестиционный Меморандум КОНФИДЕНЦИАЛЬ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5280" y="6543360"/>
            <a:ext cx="2160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E48-4B8A-46C3-9E66-9476B7B1F5EA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379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0"/>
          <p:cNvSpPr/>
          <p:nvPr/>
        </p:nvSpPr>
        <p:spPr>
          <a:xfrm>
            <a:off x="4411800" y="4549680"/>
            <a:ext cx="36716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4421160" y="4869000"/>
            <a:ext cx="3673440" cy="28872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463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9"/>
          <p:cNvSpPr/>
          <p:nvPr/>
        </p:nvSpPr>
        <p:spPr>
          <a:xfrm>
            <a:off x="4435560" y="5213520"/>
            <a:ext cx="36716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50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9"/>
          <p:cNvSpPr/>
          <p:nvPr/>
        </p:nvSpPr>
        <p:spPr>
          <a:xfrm>
            <a:off x="4421160" y="55483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0F8C-600E-47B9-97E8-A714017D890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35F-838B-475D-85A1-F5E48C5E7A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616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одним вырезанным углом 7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630680" y="6093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Presentation for Grant Committee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с одним вырезанным углом 3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971640" y="115920"/>
            <a:ext cx="8064360" cy="865080"/>
          </a:xfrm>
          <a:prstGeom prst="rect">
            <a:avLst/>
          </a:pr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3200" y="115920"/>
            <a:ext cx="20808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15920" y="115920"/>
            <a:ext cx="20808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692280" y="115920"/>
            <a:ext cx="20772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15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5963-F58B-4A2A-ACDC-1A8A117FF178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5520" y="6543360"/>
            <a:ext cx="28954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Инвестиционный Меморандум КОНФИДЕНЦИАЛЬ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875280" y="6543360"/>
            <a:ext cx="2160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69C0-E1B0-4A9E-B3D2-EB2EDAD33FAC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9"/>
          <p:cNvSpPr/>
          <p:nvPr/>
        </p:nvSpPr>
        <p:spPr>
          <a:xfrm>
            <a:off x="4421160" y="324000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0"/>
          <p:cNvSpPr/>
          <p:nvPr/>
        </p:nvSpPr>
        <p:spPr>
          <a:xfrm>
            <a:off x="4421160" y="357336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10"/>
          <p:cNvSpPr/>
          <p:nvPr/>
        </p:nvSpPr>
        <p:spPr>
          <a:xfrm>
            <a:off x="4421160" y="39067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337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0"/>
          <p:cNvSpPr/>
          <p:nvPr/>
        </p:nvSpPr>
        <p:spPr>
          <a:xfrm>
            <a:off x="4416480" y="42307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onomy.gov.ru/minec/activity+/sections/macro/prognoz/indexprognoz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43280" y="131400"/>
            <a:ext cx="43927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ООО «Компания»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Наименование проек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40" y="6543360"/>
            <a:ext cx="914256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Гор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fld id="{20617F6B-717E-46DB-8FF9-00290DA27B65}" type="datetime3">
              <a:rPr b="1" lang="ru-RU" sz="1600" spc="-1" strike="noStrike">
                <a:solidFill>
                  <a:srgbClr val="ffffff"/>
                </a:solidFill>
                <a:latin typeface="Arial"/>
              </a:rPr>
              <a:t>30 июля, 2026</a:t>
            </a:fld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4" name="Прямоугольник 1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d4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6666"/>
                </a:solidFill>
                <a:latin typeface="Arial"/>
              </a:rPr>
              <a:t>Конфиденциально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24000" y="1052640"/>
            <a:ext cx="842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Aft>
                <a:spcPts val="1199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Для финансирования проекта Заявител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ивлек инвестора (заключил соглашение о намерении инвестировать в проект) наименование инвестора с указанием формы инвестиций. Отразить аффилированность инвестора с Заявителем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Профиль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раткие сведения о направлениях деятельности Инвестора, связанных с целями и работами по стадии проекта Заявителя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Опыт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офильный опыт компании Инвестора в финансировании или реализации подобных проектов, достигнутые результаты по объему инвестиций и выходу из инвестиций и т.п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Финансовое состояние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лючевые параметры финансовой отчетности Инвестора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2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917-E2AA-448B-B588-FE89131A8FB6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3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74AB-C324-45B4-95B0-A66EF0B8E0D4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стор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416-2EEC-42F4-95D7-EBD3A0389029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A39F-082D-484B-8471-62AA87E6E1A5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решения и технолог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23640" y="1145880"/>
            <a:ext cx="8523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тадия проекта 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номер стадии в соответствии с Грантовой политики Фонд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исание технолог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кратко суть решения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исание новизны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ратко обоснование новизны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Текущее состояние и перспективы разработки: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1) текущее состояние НИОКР и параметры образцов,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2) планируемые этапы развития НИОКР и промежуточные целевые показатели,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3) что будет создано по результатам НИОКР и технические параметры конечной продукции в рамках стадии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Дорожная карта проекта представляется в Приложении к презентации в форме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24000" y="1145880"/>
            <a:ext cx="842472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уществующие решения на рынк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Наименования производителей (моделей) представленных на рынке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лючевое отличие продукта проекта от существующих на рынке решений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Чем существующие на рынке решения не удовлетворяют сегодняшним и будущим потребностям рынка или как они могут быть критично улучшены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Разработки аналогичных продуктов, о которых известно Заявителю. Ключевые отличия и сходства разрабатываемых решений, а также продукта 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1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DF3-4448-4DBC-93FA-478BE8382613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FD1-AE3E-4B6F-B944-33D0E3C4062B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ествующие и создаваемые продукты в сегменте рынк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Объект 2"/>
          <p:cNvSpPr/>
          <p:nvPr/>
        </p:nvSpPr>
        <p:spPr>
          <a:xfrm>
            <a:off x="320760" y="4321080"/>
            <a:ext cx="84265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Сравнение параметров продукта проекта с аналогами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03200" y="4743360"/>
          <a:ext cx="8282160" cy="1371600"/>
        </p:xfrm>
        <a:graphic>
          <a:graphicData uri="http://schemas.openxmlformats.org/drawingml/2006/table">
            <a:tbl>
              <a:tblPr/>
              <a:tblGrid>
                <a:gridCol w="1822320"/>
                <a:gridCol w="1143000"/>
                <a:gridCol w="731880"/>
                <a:gridCol w="1068480"/>
                <a:gridCol w="1069920"/>
                <a:gridCol w="1068480"/>
                <a:gridCol w="13780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именование модели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Стад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Цена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родажи, 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$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 рын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 рын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в разработ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4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в разработ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24000" y="1125000"/>
            <a:ext cx="842472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 algn="just">
              <a:spcBef>
                <a:spcPts val="400"/>
              </a:spcBef>
              <a:spcAft>
                <a:spcPts val="1199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Цель проекта и определение конечного продукта 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8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6150-49B5-42B0-8C2F-7FC671CE3457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9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CD7-9349-4F2B-AB33-BFF071BA647D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м сегмента рынка конечной продукции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Объект 2"/>
          <p:cNvSpPr/>
          <p:nvPr/>
        </p:nvSpPr>
        <p:spPr>
          <a:xfrm>
            <a:off x="324000" y="3860640"/>
            <a:ext cx="39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Спрос на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одукт в сегменте рынка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, 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шт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12" name="Chart 4" descr=""/>
          <p:cNvPicPr/>
          <p:nvPr/>
        </p:nvPicPr>
        <p:blipFill>
          <a:blip r:embed="rId2"/>
          <a:stretch/>
        </p:blipFill>
        <p:spPr>
          <a:xfrm>
            <a:off x="4937040" y="4151160"/>
            <a:ext cx="3699000" cy="2136960"/>
          </a:xfrm>
          <a:prstGeom prst="rect">
            <a:avLst/>
          </a:prstGeom>
          <a:ln w="0">
            <a:noFill/>
          </a:ln>
        </p:spPr>
      </p:pic>
      <p:sp>
        <p:nvSpPr>
          <p:cNvPr id="613" name="Объект 2"/>
          <p:cNvSpPr/>
          <p:nvPr/>
        </p:nvSpPr>
        <p:spPr>
          <a:xfrm>
            <a:off x="4859280" y="3860640"/>
            <a:ext cx="37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Оценка глобального рынка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, $ 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млр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4" name="Объект 2"/>
          <p:cNvSpPr/>
          <p:nvPr/>
        </p:nvSpPr>
        <p:spPr>
          <a:xfrm>
            <a:off x="630360" y="6267600"/>
            <a:ext cx="3706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Источник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: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омпания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1042920" y="6021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2011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2015 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2020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324000" y="2087640"/>
            <a:ext cx="8424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 algn="just">
              <a:lnSpc>
                <a:spcPct val="100000"/>
              </a:lnSpc>
              <a:spcAft>
                <a:spcPts val="1199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Сегмент рынка, на который ориентирован продукт проекта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324000" y="3029040"/>
            <a:ext cx="8424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отенциальные потребители проекта, перечислите 5-10 компаний - потребителей продукции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19" name="Chart 3" descr=""/>
          <p:cNvPicPr/>
          <p:nvPr/>
        </p:nvPicPr>
        <p:blipFill>
          <a:blip r:embed="rId5"/>
          <a:stretch/>
        </p:blipFill>
        <p:spPr>
          <a:xfrm>
            <a:off x="590400" y="4110120"/>
            <a:ext cx="3605400" cy="2257200"/>
          </a:xfrm>
          <a:prstGeom prst="rect">
            <a:avLst/>
          </a:prstGeom>
          <a:ln w="0">
            <a:noFill/>
          </a:ln>
        </p:spPr>
      </p:pic>
      <p:sp>
        <p:nvSpPr>
          <p:cNvPr id="620" name="Объект 2"/>
          <p:cNvSpPr/>
          <p:nvPr/>
        </p:nvSpPr>
        <p:spPr>
          <a:xfrm>
            <a:off x="5027760" y="6267600"/>
            <a:ext cx="3706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Источник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: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омпания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FCB-DAC9-4F63-BC26-1C45AF92B1F0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F96-DCA0-478E-BCF9-F8DE0CC8F756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чет экономики предлагаемого решения для потребител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57200" y="1222200"/>
          <a:ext cx="8356680" cy="3829320"/>
        </p:xfrm>
        <a:graphic>
          <a:graphicData uri="http://schemas.openxmlformats.org/drawingml/2006/table">
            <a:tbl>
              <a:tblPr/>
              <a:tblGrid>
                <a:gridCol w="3490920"/>
                <a:gridCol w="309600"/>
                <a:gridCol w="969840"/>
                <a:gridCol w="679680"/>
                <a:gridCol w="680760"/>
                <a:gridCol w="681120"/>
                <a:gridCol w="679320"/>
                <a:gridCol w="865440"/>
              </a:tblGrid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621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потребителя в натуральном выражении, 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д. изм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отребления энергоресурсов потребителем до внедрения предложенного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отребления энергоресурсов потребителем после внедрения предложенного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энергоресурсов в натуральном выражении 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)-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ф на энергоресурс***, руб. / ед. изм.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19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для потребителя, руб.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потребителя на покупку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внедрение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на оплате энергоресурсов потребителем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3)*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экономия потребител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й поток для потребител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(5)-(6)+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онтированный денежный поток для потребителя****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0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1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2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3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4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N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Box 6"/>
          <p:cNvSpPr/>
          <p:nvPr/>
        </p:nvSpPr>
        <p:spPr>
          <a:xfrm>
            <a:off x="457200" y="5186520"/>
            <a:ext cx="84852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 Год периода осуществления инвестиций должен соответствовать дате выхода продукта на рынок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 Горизонт планирования должен быть не менее срока окупаемости предложенного потребителю решения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* Средний тариф в целевом сегменте рынка соответствующего года (с указанием источника, напр. прогноз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МЭР России</a:t>
            </a: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** Коэффициент дисконтирования: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Arial"/>
              </a:rPr>
              <a:t>выбирается Заявителем и должен быть приведен здесь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Простой срок окупаемости решения для потребителя, исходя из приведенного выше расчета, составляет: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Arial"/>
              </a:rPr>
              <a:t>указывается здесь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AEC-9BB3-4DC4-B81C-EB4AB491F52D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1C2-2119-45D6-9E29-4176D22CFDE0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а интеллектуальной собственнос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Объект 2"/>
          <p:cNvSpPr/>
          <p:nvPr/>
        </p:nvSpPr>
        <p:spPr>
          <a:xfrm>
            <a:off x="324000" y="1146240"/>
            <a:ext cx="842472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Все права на интеллектуальную собственность, разработанную в рамках проекта будут принадлежать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авообладатель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Заявитель планирует (подать заявления о выдаче) следующих патентов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lvl="2" marL="466560" indent="-2854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атент 1 (краткое описание)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lvl="2" marL="466560" indent="-2854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атент 2 (краткое описание)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В проекте будут использованы патенты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авообладатели</a:t>
            </a: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на основании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форма передачи прав на использование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Объект 2"/>
          <p:cNvSpPr/>
          <p:nvPr/>
        </p:nvSpPr>
        <p:spPr>
          <a:xfrm>
            <a:off x="320760" y="4549680"/>
            <a:ext cx="842652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План по защите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P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03200" y="4911840"/>
          <a:ext cx="8282160" cy="1371600"/>
        </p:xfrm>
        <a:graphic>
          <a:graphicData uri="http://schemas.openxmlformats.org/drawingml/2006/table">
            <a:tbl>
              <a:tblPr/>
              <a:tblGrid>
                <a:gridCol w="1822320"/>
                <a:gridCol w="1016280"/>
                <a:gridCol w="1015920"/>
                <a:gridCol w="1017720"/>
                <a:gridCol w="1015920"/>
                <a:gridCol w="1015920"/>
                <a:gridCol w="137808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 2014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дача заявлен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E800-D52C-4377-B986-ED47969E0B5E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4B58-1F98-4859-B104-1FA629523356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Схема, диаграммы для разъяснения решения (при необх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240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179280" indent="-17928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179280" indent="-17928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0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936-3709-403B-97D6-9B1CBB01D4E5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342-D358-4FA9-A981-6255C6478FFB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24000" y="1052640"/>
            <a:ext cx="842472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Aft>
                <a:spcPts val="1199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Грант Сколково позволи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описание целей, на которые будет использован грант, какие результаты достигнет компания, применив средства гран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5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009-A29F-4CE9-A98C-FD5E417426C4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84C1-5171-4E6B-90D5-1707C8C122CC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т партнерства со Сколко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Объект 2"/>
          <p:cNvSpPr/>
          <p:nvPr/>
        </p:nvSpPr>
        <p:spPr>
          <a:xfrm>
            <a:off x="320760" y="2030400"/>
            <a:ext cx="842652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Бюджет стадии проекта, млн. руб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611280" y="2398680"/>
          <a:ext cx="8254800" cy="4191120"/>
        </p:xfrm>
        <a:graphic>
          <a:graphicData uri="http://schemas.openxmlformats.org/drawingml/2006/table">
            <a:tbl>
              <a:tblPr/>
              <a:tblGrid>
                <a:gridCol w="2259000"/>
                <a:gridCol w="722160"/>
                <a:gridCol w="647640"/>
                <a:gridCol w="646200"/>
                <a:gridCol w="647640"/>
                <a:gridCol w="646200"/>
                <a:gridCol w="647640"/>
                <a:gridCol w="647640"/>
                <a:gridCol w="646200"/>
                <a:gridCol w="744480"/>
              </a:tblGrid>
              <a:tr h="146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бюджета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финансирования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д "Сколково"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именование соинвестор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расходов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X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: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X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: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жи (если применимо)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объем продаж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3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измеримые результаты и их ключевые параметры в соответствии с дорожной картой проекта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18:48Z</dcterms:created>
  <dc:creator>Kravtsov Dmitry</dc:creator>
  <dc:description/>
  <dc:language>en-US</dc:language>
  <cp:lastModifiedBy>Skibin Anton</cp:lastModifiedBy>
  <cp:lastPrinted>2011-11-23T07:32:36Z</cp:lastPrinted>
  <dcterms:modified xsi:type="dcterms:W3CDTF">2011-12-26T13:55:47Z</dcterms:modified>
  <cp:revision>632</cp:revision>
  <dc:subject/>
  <dc:title>Презентация PowerPoint</dc:title>
</cp:coreProperties>
</file>